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56D-2401-4F87-B319-F09CBDEF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2EA-BC2F-4A3F-BEC5-ECBF4A24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8DB-A470-44D6-A2BC-5461D4C4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A02-32C9-45FA-AFD2-DB63ADDB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7F8E-0BF8-4B6E-8E0E-3E890A11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A4CC-452E-474B-8BEA-A862DEAA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CB2F-E2DA-4625-98A9-7BE4639D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A4EF-A4EC-4FF1-B3A3-63A07113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88F6-C88C-469E-A05D-ED0B938A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64AD-CB22-41E1-9649-E2165250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0845-840E-42B9-AA1F-3309340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468-D3C9-43C5-A0CA-7D00FC6F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D34-DB86-4481-883D-CAFE8C3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10F3-D884-4FB1-85F3-B86007F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8360-8B3F-40AC-9FED-FEECCCD4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3556-F9EB-43F3-85D7-8AFC1D0D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D37D-5FFA-46D7-9379-46963ACE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214-F8E4-44C7-966E-B5804BC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A4F-BA95-422E-B623-7B8CAF42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F73-D457-4D89-8B4A-94597289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3E8-B987-46E9-9D8F-7275CA67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392-1462-42E9-AEC5-910F6D47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A1C-0FC9-4724-BC01-F5BDFEB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B12-1CA4-4488-AE35-C0839EF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261E-6204-4260-9FA4-25767B0FA7E6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D46C-3803-4FD7-8B2B-3591663EF012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onnie Campbell</cp:lastModifiedBy>
  <dcterms:modified xsi:type="dcterms:W3CDTF">2002-05-31T21:55:06Z</dcterms:modified>
  <cp:revision>3</cp:revision>
  <dc:subject/>
  <dc:title>Twenty Questions </dc:title>
</cp:coreProperties>
</file>